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AEC-6BD2-4546-94A6-5C2A9D9F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EEA7-8714-456F-9E42-47C9A71F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966-2861-4172-92B1-2C31E244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9F1-1605-4C4A-A4C3-35222EA2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0E2-2DED-4E53-9D2A-E917E5C2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EDC-B205-4EB3-9D0B-806DE6A6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7CAF-C46B-4677-B63D-AFD47E97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414-0853-43AD-B915-FA8EA942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222-DB6D-4926-B342-68E31CFA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8512-A382-44AB-905C-7A2304BA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7EE9-3621-42A1-8B0E-322F09C6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EB6-AB7D-48D5-B8EE-2AE8308A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9B8E-A15A-45EE-A6AF-4A83934C9F3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15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Book Antiqua"/>
              </a:rPr>
              <a:t>SELECCIÓN DE MEDIO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642960" y="83340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f)Acciones que requieren alta discriminación por terri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: Radio, exteriores y periódicos 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Revistas 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No recomendables: Televisión, si sólo cubre el ámbito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500040" y="833400"/>
            <a:ext cx="8143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g)Acciones que necesitan alta discriminación por segmento de merc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: Publicidad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Radio y revistas especial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No recomendables: Televisión, exteriores, radio en programación general y revistas de interés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500040" y="1039680"/>
            <a:ext cx="8215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h)Acciones que requieren periodos muy largos de exposición con presupuestos limit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; periódicos y ext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rev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No recomendables: Tele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CuadroTexto"/>
          <p:cNvSpPr/>
          <p:nvPr/>
        </p:nvSpPr>
        <p:spPr>
          <a:xfrm>
            <a:off x="428760" y="1047600"/>
            <a:ext cx="8143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i)Acciones que exigen un mensaje con argumento necesariamente largo y relativamente compli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: periódicos y rev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directa, si se puede segmentar el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No recomendables: televisión y ext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428760" y="1071720"/>
            <a:ext cx="8286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j)Acciones que requieren una alta frecuencia con un bajo costo-efic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;  Televisión, radio, ext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Periód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No recomendado: revistas y publicidad directa</a:t>
            </a: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1 CuadroTexto"/>
          <p:cNvSpPr/>
          <p:nvPr/>
        </p:nvSpPr>
        <p:spPr>
          <a:xfrm>
            <a:off x="357120" y="523800"/>
            <a:ext cx="835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PARA SELECCIONAR MEDIOS SE DEBE TOMAR EN CUEN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-El público objetivo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. A quienes dirigimos nuestros mensajes. Se trata de seleccionar el periódico, el programa de radio, la revista o el programa de televisión que ve el público al que nos dirigimos. Si queremos que nuestro mensaje sea recibido por jóvenes, urbanos, modernos, tenemos que colocar el anuncio en la radio, o el programa de televisión que ven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-La imagen que cada tipo de soporte transmite. 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El prestigio que los consumidores asignan a cada revista, periódico, o programa de televisión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 CuadroTexto"/>
          <p:cNvSpPr/>
          <p:nvPr/>
        </p:nvSpPr>
        <p:spPr>
          <a:xfrm>
            <a:off x="357120" y="963720"/>
            <a:ext cx="8358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-La credibilidad. 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Lo creíble que  los consumidores consideran cada soporte. La credibilidad del periódico se transmite en parte a la publicidad que inserta. Un anuncio insertado en un periódico serio no es percibido igual que el mismo anuncio dentro de un periódico sensaciona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-Las posibilidades técnicas de los diversos soportes.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 Algunos medios permiten imágenes y sonidos como la televisión pero requieren un mensaje muy corto. Por otro lado los periódicos permiten facilitar una gran cantidad de información a los consumidores. Las revistas permiten utilizar el color y distintos tipos de enc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571680" y="1047600"/>
            <a:ext cx="792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-La disponibilidad de espacio publicitario.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En ocasiones los mejores espacios están reservado con tiempo por grandes anunciantes, agencias o revendedores de publ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-El coste. 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Un aspecto esencial; Para realizar una primera aproximación analizamos el número de personas que ven un anuncio. Para saber el número de personas que ven un determinado anuncio normalmente tenemos que acudir a la información proporcionada por una empresa especializ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785880" y="1111320"/>
            <a:ext cx="7572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a) Acciones que requiere un rápido y fuerte impacto en los merc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: Tele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Radios y medios impresos, como apoyo a la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Terciarios: Medios ext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CuadroTexto"/>
          <p:cNvSpPr/>
          <p:nvPr/>
        </p:nvSpPr>
        <p:spPr>
          <a:xfrm>
            <a:off x="785880" y="1111320"/>
            <a:ext cx="7572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b) Acciones que requieren una fuerte demostración del produ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: Tele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Medios imp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No recomendados: Radio y ext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2 CuadroTexto"/>
          <p:cNvSpPr/>
          <p:nvPr/>
        </p:nvSpPr>
        <p:spPr>
          <a:xfrm>
            <a:off x="500040" y="968400"/>
            <a:ext cx="8215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c)Acciones que exigen una profunda y rápida identificación del aspecto exterior del produ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: Medios impresos y ext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Tele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No recomendables: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571680" y="1325520"/>
            <a:ext cx="8072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d)Acciones que precisan una reacción a muy corto plaz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; Radio y periód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Tele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Terciarios: Ext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No recomendables: Rev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714240" y="1246320"/>
            <a:ext cx="7929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e)Acciones de penetración o ampliación de merc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: Televisión, radio y periód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Ext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Terciarios: Rev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8T16:31:49Z</dcterms:created>
  <dc:creator>Manuel Marquez</dc:creator>
  <dc:description/>
  <dc:language>en-US</dc:language>
  <cp:lastModifiedBy>Manuel Marquez</cp:lastModifiedBy>
  <dcterms:modified xsi:type="dcterms:W3CDTF">2003-01-25T08:11:41Z</dcterms:modified>
  <cp:revision>3</cp:revision>
  <dc:subject/>
  <dc:title>SELECCIÓN DE MEDIOS</dc:title>
</cp:coreProperties>
</file>